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269D-596F-4803-8B8D-A35BBEFD89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D596-738C-4B17-B8BA-71FB60CDF44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6A1B-88A7-4D9B-8D12-6E915D2C93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A1E-A65F-426E-BBE9-65E94181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2FF-59DD-4A2F-8508-EF53F08A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5A366-8F7A-4597-96CF-A1C1C949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15358-6242-4CF2-B5C9-7A6CEAD3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EA279-1CEF-40E3-99B4-2319E08A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EAC4E-38AE-4D62-9D5A-7B0AA5C6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B9C1A-F929-4328-BCD8-F401DC6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1813B-73A8-40BC-9EEA-4F758B1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B5DEC-0445-49B5-9479-30742C0E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8FED8-1DA0-4022-A9A4-B73844E3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495E8-28E8-4BA1-A235-EBF6F82A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9383F-ADBA-4EBC-AC74-C19014BF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5DE-283F-4F51-866C-EE794070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A61A9-1755-475C-B21E-B7EAE99D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BB468-5847-40EE-B527-6BEFCB69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ACCB9-4605-4162-843A-FDF23DA8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E262E-EA01-4762-811F-E63CE3DA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86497-27A2-49CD-A691-5C35BB05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B2EE8-DF44-435F-80BC-24DB8CC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924B2-5306-461C-A12C-852191B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E5234-7E60-4D6F-84F1-EBBFC0DB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F67BC-0D16-47B5-AB5F-D3116C03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361C6-9CE5-4B53-8BBD-F07812DF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18E-ECEF-4E14-A9A6-E8F3AD56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79B50-FBEF-4BBC-A022-DCF7A6FB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E3578-E06F-4771-A0F0-E5068D62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E9CE5-5F59-4FF6-ADA9-7E406150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96DE0-B90C-4922-9F5A-19CFBDD3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2EAE6-FE55-4D3D-A4B2-0B00062A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2FD8C-DD01-4290-869E-D4DA3F2A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77695-EE0B-41DB-84EB-5075772E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FEC46-D62B-4444-ABF5-DC2FC1ED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F8E2F-05AC-41F8-B0FA-C295B65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964DF-E527-447F-B0D7-DAFF3B59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5F30-8B5B-48BD-8789-129A69E1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C0E6A-1461-4723-8454-EC9CAD8D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B7AB7-4AD8-4555-9873-A69B3A3F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B1371-EFD1-4220-A488-2FF7C11B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15FF8-9824-4796-A09A-39DDC036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00371-63ED-41C2-8F69-64F50A7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28E50-806B-4E49-9B9F-1874830F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84E77-76DF-46E1-AF12-E80EF488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1FD6A-94FB-4AB9-92BE-36E07C29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FCA41-0835-4449-A29C-4CFA5B8E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8E8E8-789E-4E9A-8A89-6A35B7D5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28F3-5D04-49E9-B3D6-E11E04C0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AB1C8-6475-4E1F-911C-37B9E132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0D15E-3A06-4786-9596-F44D12A5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E2786-34B0-4011-94DC-3557DE90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6A7BB-AAF7-40C3-A021-FE2BFBAA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A5A2B-613C-4151-97F0-2CA53DB4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D90F1-8BAC-43B7-85C6-BBF26ADD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043D8-150B-4E72-80A3-8F241ABC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83CC5-05AE-4B6F-8C92-81DB37F1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9BA3B-C548-421A-9B38-1E51BEE8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DAC00-32B9-4ECB-A668-9976B325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F2A7-A96A-46FF-87B6-A27863AF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F7A06-E784-4077-8E98-3D30B668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100A4-466D-403C-8785-DB2F142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4E0E8-629B-498F-847D-A8FB1C81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DD141-6B68-4AB7-BB03-DBDF824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5BEB5-B5CB-4840-AD57-19B68B2A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685AD-5D4E-4311-8F12-E005CCCA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F287D-E1B9-4A01-A07B-A6DDDACA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C6770-A1FD-4C34-B27D-66775A12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6F779-C941-4266-B0FB-D3B4342C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0B6D5-FDC7-4CF8-A336-6A088077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B0AE-94E3-4E3F-8974-233C2E1D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DAE90-0661-4664-8762-EA70B4C4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689E1-4DCA-4939-945C-83CD67C7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6F431-3ADE-4700-B11A-EE1CF3C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13C0C-A7B4-42F1-89E9-9EB69FB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E393D-9BD6-4C68-AF52-060129A4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79047-43EF-4C6D-B6A0-5CC48A9F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2CC12-0E1C-454A-A248-EA8ECA33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C11AB-CBCD-4FF4-9680-AAD3E6E7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96300-0014-4785-BC74-5CE729D6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C7CE-5C00-48F6-9307-814FD1FC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181C-C5F3-4E27-80E4-26FEDDD6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CC1-D012-4A2E-B0F3-B5DA7A5E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DA6-D699-486F-86C8-F80F0B82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2FCB-E868-4083-90B2-B6B45ED4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21EF-DEBF-4DF1-857B-1A3C4194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3D6D-786F-45CD-B67C-3B3D1E4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4B8E-0308-473E-A776-6FC06AB0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84E7-6325-4BF4-B7D0-88903D9D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1883-DFE7-4003-AF21-239B224D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E8BF-9069-4FED-83DC-BC6DAEC6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6118-A667-40F9-A67F-8379E994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529A-4158-42CD-B98B-B6BB3017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5201-1E3E-4D53-912C-09EE1483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C9E-0850-4A4F-8620-7FEE0399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3258-EF51-4692-AA90-712243A3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15BA6-A7EE-4B00-BF22-CA061106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1770-A200-44B9-9102-0AB94BEE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8375-F7E2-499A-A54D-D7BB68D9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9E10-FC85-4472-A670-E131FE57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CCDC-AF7E-43A1-9355-258DEC04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051DC-B399-41B7-B65F-507324DB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539D2-AAE8-4A9A-A499-7B8F6984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5071A-4134-40D8-93BB-80DE9D44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3D87F-967F-4290-8BB2-AFC8FCFA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38D-AFF4-4115-B67D-D7801A36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E26B-FA43-4C2F-AB63-A44C3D39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F854E-6F3C-4072-A1A7-ED0C9EC4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85A0-5D57-4035-81EC-27971CA4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73F9-261B-4991-BDA4-BE76FAE1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8D66-F3DC-41AE-B008-2C1B82D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9850-1EEC-4871-988C-91537C3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9331-CF8E-48D3-A373-9EA9B579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05BF-DCFC-45FB-9938-E4ECDCA3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AB37-ED82-4D66-9284-87E0047B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E330-7FD7-4AFE-894F-D295DE71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C06-29D3-4DFC-B075-221805F4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E9357-059D-4B67-AAE8-12D1B1BD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48717-5040-47E7-9D9F-F1C03CDB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527A6-0616-49CA-8BE3-ADF6A8F7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74E0-D538-4E7E-A1F5-D42E996D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C0AF-DE54-4D21-9065-D7D369E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B34E-EADE-49D0-A5BA-35A019C6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9E27D-6000-413C-AC6F-9E9D7D35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32465-11F9-43F5-AA1D-B22C4A1F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EFB53-AD3E-4B79-B58F-C38318B6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F42C-27F8-4771-B2E7-1B09AFF6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3C4-6F8C-40B7-BEA4-3F214C5B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A8E97-4B02-44DF-9338-92480312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C2CA1-0BF1-482D-9E37-DA513E64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B2087-F8DD-4A9A-9F9B-54CA9462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F140-1E73-46B0-BDD5-96D0E411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C6DB9-6569-4DBD-8DD5-42E60B2D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6CDB2-1841-49B9-840A-C7E1842C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F02DB-A212-40E2-B304-3899C999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07C11-6572-4BC3-B23C-BA8AAEFE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B922C-5002-495D-B66C-F42C5027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6DDF5-53AD-4B6C-96BC-1D7086C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987-B92F-4F36-AA95-980BBE23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14ABB-A974-41AD-8461-8A7C1392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96B8-14EC-43B9-A69B-BD2EEFA1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C859C-91EE-4FF6-A764-9F92ED89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8DD63-F35D-43A7-AD6F-284BB5BB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97C09-DBFF-458F-851C-AA40AC45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E989E-814D-4E70-9228-211BBFD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A416-B78A-4D01-B04E-128036E3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028E1-64BF-4715-A2D8-9A21D907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04CF2-48CA-490F-BFE9-9632DC91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AE68-081F-4EE7-997E-DD31171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DB8-8D73-4921-8A54-876AB31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441F6-B440-4F02-902F-167A9AD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13E9-0E4A-48AE-BDFA-3938B19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0A436-30E8-4914-A0EE-52E457CD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48811-1551-4BFC-8598-3DC6CD47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882B-9072-4D9D-8B25-89D995F8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F7C31-5C05-4755-8D18-3330A1F4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D5569-F64B-429E-B2A6-3069170F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DC044-DF74-4B19-AEA9-125E915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02434-56F2-4179-BD2B-91B2B475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0B86-02B1-49AF-AAD3-0D445BC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1F1-3B26-454F-8FEE-61CB8D1B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C0298-E2D6-4AD1-A5B1-185DF82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AED37-1422-42C8-ACC7-8E94438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9E4A4-2BCF-4945-96CF-F09AD4FF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86569-BE07-4946-9330-F68FAA76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5D0A1-99D3-4602-A667-04D87D76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01018-F8E9-4D4F-8D72-C9F9ECAB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A2C5E-C332-466A-BADB-C407E0D6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009E6-E0A3-475B-B162-74C0DDF4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66AB2-2F25-4F2D-906C-BBAAD84C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905C6-DCBD-40C2-80CF-8A5241CA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64B7-C7F1-4586-A4F5-A8E51EF26AA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21FE-4CFB-420A-BDCB-1F1F183098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FBDF-F406-472A-BA36-AA38442437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38C3-8E6F-4C07-BF39-C58915B0E7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CC70-7A9F-4454-8B4B-C36DF5B8A1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FC75-8DFE-46A1-9E9D-A3AFF8EB57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2362320" y="752400"/>
            <a:ext cx="3962160" cy="124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3"/>
          <a:stretch/>
        </p:blipFill>
        <p:spPr>
          <a:xfrm>
            <a:off x="3809880" y="5710320"/>
            <a:ext cx="1524240" cy="61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E8D-5265-4136-A774-C7010B408B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09EC-ED68-4C44-A910-D4E0085D33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15FF-07BF-4CB3-B2A7-4DEACFDBDC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1553-6F82-4944-9E5C-2B54804C71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F28A-3120-4753-9598-551BC5B9E2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A327-102E-4840-BD33-CA4F03D702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407C-244B-454A-B40F-EE80F669D1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AB67-9311-4D16-9574-3CF067E3AC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17360" y="4800600"/>
            <a:ext cx="7592760" cy="1295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 Rounded MT Bold"/>
              </a:rPr>
              <a:t>Λευκωσία, Ιούλιος 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7593120" cy="1370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ctr" anchorCtr="1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Arial"/>
              </a:rPr>
              <a:t>«Από τον αμπελώνα στο τραπέζι μα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egnaposto data 3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509A-FC06-4CF1-940C-BBF3A0108C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ttangolo 9"/>
          <p:cNvSpPr/>
          <p:nvPr/>
        </p:nvSpPr>
        <p:spPr>
          <a:xfrm>
            <a:off x="466560" y="26668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foodanddrinkeurope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Grafik 3" descr=""/>
          <p:cNvPicPr/>
          <p:nvPr/>
        </p:nvPicPr>
        <p:blipFill>
          <a:blip r:embed="rId1"/>
          <a:stretch/>
        </p:blipFill>
        <p:spPr>
          <a:xfrm>
            <a:off x="6858000" y="1903320"/>
            <a:ext cx="1601640" cy="10400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2716200" y="1289880"/>
            <a:ext cx="4114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Learning Resource has been develope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prus Food and Nutrition Museu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in the Europeana Food and Drink Project, demonstrating the value and potential of food and drink-related content sourced through Europe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The project is funded by the European Commission under the ICT Policy Support Programme part of th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Competitiveness and Innovation Framework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735360" y="4819680"/>
            <a:ext cx="21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a Food and Drink  consortium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562040" y="5582520"/>
            <a:ext cx="61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ork is licensed under a Creative Commons Attribution 4.0 International Lice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Creative Commons License"/>
          <p:cNvPicPr/>
          <p:nvPr/>
        </p:nvPicPr>
        <p:blipFill>
          <a:blip r:embed="rId2"/>
          <a:stretch/>
        </p:blipFill>
        <p:spPr>
          <a:xfrm>
            <a:off x="7848720" y="55324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645" name="Grafik 2" descr=""/>
          <p:cNvPicPr/>
          <p:nvPr/>
        </p:nvPicPr>
        <p:blipFill>
          <a:blip r:embed="rId3"/>
          <a:stretch/>
        </p:blipFill>
        <p:spPr>
          <a:xfrm>
            <a:off x="880920" y="1011240"/>
            <a:ext cx="1157400" cy="1655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"/>
          <p:cNvPicPr/>
          <p:nvPr/>
        </p:nvPicPr>
        <p:blipFill>
          <a:blip r:embed="rId4"/>
          <a:stretch/>
        </p:blipFill>
        <p:spPr>
          <a:xfrm>
            <a:off x="4240080" y="3411360"/>
            <a:ext cx="1067040" cy="12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0040" y="4723920"/>
            <a:ext cx="7413480" cy="6858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Arial"/>
              </a:rPr>
              <a:t>Ενότητα γ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699D-A0B5-4570-9E1B-231A161D72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2971800" y="1238400"/>
            <a:ext cx="31924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2640" y="5105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SbbSBnI-Hb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B24D-C2EB-4A69-B303-C44B11BA9A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Παραγωγή Κρασιού στην Κύπρο.mp4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3132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1760" y="5181480"/>
            <a:ext cx="7413480" cy="5270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7CIRq5QG0b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149C-7214-4BA4-A264-BC8BDE3229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Sideways - Are You Chewing Gum.mp4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1102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160" y="4648320"/>
            <a:ext cx="7848360" cy="450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haelides, D. (1992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ypriot Mosaic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Nicosia: Department of Antiquiti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37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A2D3-353F-4908-8373-95AA8012BC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025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9A25-8F43-44C6-B2B5-540E9FD971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rcRect l="82467" t="-422" r="-182" b="432"/>
          <a:stretch/>
        </p:blipFill>
        <p:spPr>
          <a:xfrm>
            <a:off x="5715000" y="914400"/>
            <a:ext cx="2057400" cy="4890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3886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762120" y="12189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Συγγραφ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Νατάσα Χαραλάμπους - Μουσείο Κυπριακών Τροφίμων και Διατροφ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haralambous.natasa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yfoodmuseum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Εποπτική/Συμβουλευτική Ομάδ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Στάλω Λαζάρου - Μουσείο Κυπριακών Τροφίμων και Διατροφή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Εύα Νεοφύτ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Δέσπω Λοϊζ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Κατερίνα Μάτσα - Εκπαιδευτικός/Θεατρολόγ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egnaposto data 4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6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D419-54AC-4DAA-ABFF-8CE656D5E0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Arianna Giuliani (Museo del Cioccolato);Emmanuel Mazzucchi (DigiLab Sapienza)</dc:creator>
  <dc:description/>
  <cp:keywords>Food and Drink Europe Open Educational Resources</cp:keywords>
  <dc:language>en-US</dc:language>
  <cp:lastModifiedBy>Natasa Charalambous</cp:lastModifiedBy>
  <dcterms:modified xsi:type="dcterms:W3CDTF">2015-07-15T22:45:47Z</dcterms:modified>
  <cp:revision>49</cp:revision>
  <dc:subject>Food and Drink</dc:subject>
  <dc:title>Museo Del Cioccolato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438C5FEF74F9443A5EA2DD155643AD2</vt:lpwstr>
  </property>
  <property fmtid="{D5CDD505-2E9C-101B-9397-08002B2CF9AE}" pid="3" name="TaxCatchAll">
    <vt:lpwstr>270;#Food and drink;#1438;#Open Educational Resources;#1437;#Europe</vt:lpwstr>
  </property>
  <property fmtid="{D5CDD505-2E9C-101B-9397-08002B2CF9AE}" pid="4" name="TaxKeyword">
    <vt:lpwstr>270;#Food and drink|86b18f41-7aea-4cbd-a8f5-1f30581748ea;#1438;#Open Educational Resources|7c19c98a-eccc-4349-95a1-48f028d2aa69;#1437;#Europe|ed74af8d-fb26-4450-9f7d-b2780cc34457</vt:lpwstr>
  </property>
  <property fmtid="{D5CDD505-2E9C-101B-9397-08002B2CF9AE}" pid="5" name="TaxKeywordTaxHTField">
    <vt:lpwstr>Food and drink|86b18f41-7aea-4cbd-a8f5-1f30581748ea;Open Educational Resources|7c19c98a-eccc-4349-95a1-48f028d2aa69;Europe|ed74af8d-fb26-4450-9f7d-b2780cc34457</vt:lpwstr>
  </property>
</Properties>
</file>